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13C-4104-463B-8B7B-2CF13B6B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499-612A-45FE-895D-6775A756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3812-2EB3-41F0-B135-3B70B331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4E6-7F7D-4336-A470-8C980F2F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3E4-DF51-4E0B-8487-238FEC79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0DA-6BB2-4F54-ADCE-5F777E1A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9EB-B25C-47B0-A390-17B566D2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58E-3863-4F81-BF83-B5C655D2A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68D-AC99-48E2-B0D8-555EE1D3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4E1-24AD-4EB0-BC3D-C360C63BC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07D1-B4AA-4CD1-9491-B80DE5B57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21FA-80B2-46CB-851C-8C11757DF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C7DF-E651-4853-B748-2D483C712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F763-964C-4086-902B-0EB2CB99DD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A6A7-94A9-4EB5-8113-73823AC12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CF01-25CD-4AED-85EF-13A36C31C8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C905-FD24-4A3A-A75A-D379C8D12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776A-AF43-48C7-8689-30E99FB513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CC1B-9FA3-4343-BE65-0EF5FF3405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7B6-4597-44BD-8F17-24D503FEA5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A51A-26A6-4405-B853-D44BD2647C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29D7-8284-42CB-8E63-AFB83B15E2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7190-D9B7-44C5-ABEB-B9938E351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F3CC1-8244-418C-AF23-3AFC4464D4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DB066-A720-42E9-BDC8-5DFA26EE1D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3EC19-146F-419A-BAFC-38C4E12F01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B3C2-46D2-4013-B928-816324B1999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4C721-4B69-4BBC-B8C4-E85B548489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13887-FC9E-4E54-A026-3DDCA56C04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CFB9B-E9B4-4765-9526-68B0C3429D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A42C0-C8C5-40F7-B19B-626FF86604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FFE2B-65E6-4CE4-AAF4-DA26BD2E3F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EE802-A8DC-4077-843D-2F3A9BC25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2496D-E6E1-4036-BCCF-09439E92E2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AC26-ED5F-4C3F-AE25-9C23B0E7D3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CFF6-9A5F-439C-85C5-F3EF1A0373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49BEA-70EE-416A-9E26-20EEA934C5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C5D0-D644-4D19-90C8-37C95E3B01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BB9E-B4F4-491C-934B-46888043AC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8DF8E-E89A-498B-995F-6F0AC8A88B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11D56-C007-42B2-87DF-66B21B7AD4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4C55-98F8-46BD-B42F-8DBF6A6A7B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93B9-C0E7-48F2-A848-9DBEDD914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B3D6C-1DCB-4862-9822-DE2483B939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6929-3D73-4356-A68A-11A970F8B9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E5D1-9E5E-4FE2-A4EF-32D04C57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6C30435-40D4-4169-B66C-D2D492FAD9E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B14514C-3618-4B57-B757-EC7D23493FDC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FFA44FA-46C8-48B0-A452-A644C8D5490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B6F1EF3-EB3A-4AE0-8A1E-952D9F97F58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72E95D4-922D-48A3-9A9F-83D8DADBC699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Word &amp; Ribbon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ord:  is a word processing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reate and edi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eature:  Rib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:  Word’s commands along top of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6FF24437-2650-4447-AD31-04719F996103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9C68E11F-89D2-4B58-8D70-9625EEF6654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550800" y="1730520"/>
            <a:ext cx="82598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d’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1599840"/>
            <a:ext cx="769608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 (across top) has different groups of commands (on bott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69960" y="2692440"/>
            <a:ext cx="8126280" cy="183348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D12DFA0B-1D27-4B21-AC13-01488DC78AF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Brace 1"/>
          <p:cNvSpPr/>
          <p:nvPr/>
        </p:nvSpPr>
        <p:spPr>
          <a:xfrm rot="5400000">
            <a:off x="4127040" y="955440"/>
            <a:ext cx="743040" cy="7140600"/>
          </a:xfrm>
          <a:custGeom>
            <a:avLst/>
            <a:gdLst>
              <a:gd name="textAreaLeft" fmla="*/ 0 w 743040"/>
              <a:gd name="textAreaRight" fmla="*/ 268200 w 743040"/>
              <a:gd name="textAreaTop" fmla="*/ 103680 h 7140600"/>
              <a:gd name="textAreaBottom" fmla="*/ 7036920 h 714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928800" y="5091120"/>
            <a:ext cx="7867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d      Italic      Underline      Font      Font Size      Alignment     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ing      Styles      Change Styles (Word 2010)      Font Col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     Copy      Paste      Save      Undo      R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d’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ing:  the application of design elements to a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hance your document to make it more appealing, eye catching, and easier 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837CD0F7-C59D-4792-B5D1-D93C2F4616C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Quick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41440" y="161604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hange Sty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77F2AC1C-E80C-43C4-9863-46810850E9E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2206800" y="3430440"/>
            <a:ext cx="4832280" cy="2833920"/>
            <a:chOff x="2206800" y="3430440"/>
            <a:chExt cx="4832280" cy="2833920"/>
          </a:xfrm>
        </p:grpSpPr>
        <p:grpSp>
          <p:nvGrpSpPr>
            <p:cNvPr id="272" name="Group 1"/>
            <p:cNvGrpSpPr/>
            <p:nvPr/>
          </p:nvGrpSpPr>
          <p:grpSpPr>
            <a:xfrm>
              <a:off x="2206800" y="3430440"/>
              <a:ext cx="4832280" cy="2833920"/>
              <a:chOff x="2206800" y="3430440"/>
              <a:chExt cx="4832280" cy="2833920"/>
            </a:xfrm>
          </p:grpSpPr>
          <p:pic>
            <p:nvPicPr>
              <p:cNvPr id="273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6800" y="3430440"/>
                <a:ext cx="4832280" cy="283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6" descr=""/>
              <p:cNvPicPr/>
              <p:nvPr/>
            </p:nvPicPr>
            <p:blipFill>
              <a:blip r:embed="rId2"/>
              <a:srcRect l="35279" t="65982" r="21672" b="0"/>
              <a:stretch/>
            </p:blipFill>
            <p:spPr>
              <a:xfrm>
                <a:off x="3874320" y="4611240"/>
                <a:ext cx="2088000" cy="89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Straight Connector 4"/>
            <p:cNvSpPr/>
            <p:nvPr/>
          </p:nvSpPr>
          <p:spPr>
            <a:xfrm flipH="1" flipV="1">
              <a:off x="2953800" y="4788720"/>
              <a:ext cx="920160" cy="11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pening Data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ata files are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ehn’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class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correct Chapter/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Data Fil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o your name on Leaddog into your Computer Folder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default name given to fil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IE and open Data File from the Start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790DB823-4679-46B2-853F-EFA1534C376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General Info: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95440" y="1600200"/>
            <a:ext cx="80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ptable Use Policies:  AUP – the rules you follow when using a comput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DSD has an AUP that all students should fol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Numbered Lists:  when you begin numbering a list, Word will continue the numbering for you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Home Ribbon, Paragraph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er: At top of page.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uble Click to ad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Your name, Grade, Title,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ed for all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81F3A669-8259-453E-97A0-54E70650EAE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30F4A4A7-2095-4567-A44F-E9265485355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6440" y="1600200"/>
            <a:ext cx="322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,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 218-35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# of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3738600" y="1628640"/>
            <a:ext cx="4056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7T05:33:42Z</dcterms:modified>
  <cp:revision>71</cp:revision>
  <dc:subject/>
  <dc:title>Slide 1</dc:title>
</cp:coreProperties>
</file>